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83D-F318-4382-902C-A3A0D95D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8E0-8642-4E02-A0A1-59B81202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7F6-A705-4C52-8246-E0DBC8AC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3DD-592E-4094-8C98-118BD06E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A81-121E-4236-91F6-9F3DEE7C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349-3AC3-41E2-8820-CD9E85C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9FC-401D-467A-8967-71567FD3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8C9-48F7-4028-9A6F-8506ECBA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9C5-D5D4-41C2-8F53-10C8B42B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2A8-5AB6-45D3-A0B5-8351176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735-955B-40F0-9321-5F32A93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917-0A2D-486D-AE37-9F79BC7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D6E0-1E4F-4C71-9ED8-2F066B680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653" descr=""/>
          <p:cNvPicPr/>
          <p:nvPr/>
        </p:nvPicPr>
        <p:blipFill>
          <a:blip r:embed="rId1"/>
          <a:stretch/>
        </p:blipFill>
        <p:spPr>
          <a:xfrm>
            <a:off x="-93600" y="0"/>
            <a:ext cx="576576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228600"/>
            <a:ext cx="38862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حدت يا رب لا هوتك بناس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ناسوتنا بلاهو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حياتك بم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موتنا بحيا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أخذت ما لنا ووهبتنا م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تحيينا وتخلص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ك المجد إلى ا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4:52:46Z</dcterms:created>
  <dc:creator>USER</dc:creator>
  <dc:description/>
  <dc:language>en-US</dc:language>
  <cp:lastModifiedBy>USER</cp:lastModifiedBy>
  <dcterms:modified xsi:type="dcterms:W3CDTF">2003-02-13T04:52:57Z</dcterms:modified>
  <cp:revision>1</cp:revision>
  <dc:subject/>
  <dc:title>PowerPoint Presentation</dc:title>
</cp:coreProperties>
</file>